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A54-18F1-48AF-841B-F4F84510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844-4AB5-4D22-9029-D1BD6F35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ABA-1CD7-4CEE-B75F-8498FE02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5EE-65E3-4FC2-A606-9F7D27B1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42B9-B052-42DA-A4F7-98EF1D81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5A8-C11D-486F-A0C6-DCAE3B7C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2FD-4FB4-4D09-982B-B5E0203E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D64-74A9-4F78-98B1-56A7911E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9AC-5DDF-4D0E-9916-CE882F1F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193-2AD0-4DE7-B628-C0877AE7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5EF-BEE6-4832-ACE9-EB105B5A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0E4-D53F-40AF-8F96-B9EB7CDC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07FD-D8F9-447E-B0FA-6BEC33A1A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85600">
            <a:off x="3976200" y="2701800"/>
            <a:ext cx="11908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 Black"/>
              </a:rPr>
              <a:t>new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8:23:51Z</dcterms:created>
  <dc:creator>HISD</dc:creator>
  <dc:description/>
  <dc:language>en-US</dc:language>
  <cp:lastModifiedBy>HISD</cp:lastModifiedBy>
  <dcterms:modified xsi:type="dcterms:W3CDTF">2012-04-24T18:26:26Z</dcterms:modified>
  <cp:revision>1</cp:revision>
  <dc:subject/>
  <dc:title>Slide 1</dc:title>
</cp:coreProperties>
</file>